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C39-3A95-4575-A004-EC727C71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C06-6792-4BB7-888B-9C68F33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AFD-4C0F-4FBF-BAA3-A38E5645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77A-4F6A-4ABD-A29A-63AC841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EE0-2D3B-44A6-ABF3-4A07298D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4F4-C4F0-4F65-AF66-98987387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027A-5A58-4B39-BEE9-7AD7B6DD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2D0-E6BE-4C03-A316-C03CAB7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E1BA-32CF-4D26-86B3-B765F654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7B9-9E11-4B5F-90C2-984679B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05E1-D169-4310-8EF7-C9BD146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6F9-4BF0-4697-841D-A80F1D0E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374-1FBA-4A9D-9BD0-89D1D7C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9D49-AE2A-48C0-87F8-E4AA9E30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7B5-4EE5-412E-B48A-24443D49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9DF-0B6B-47CC-A94A-E5A667CD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409-B67E-4276-BB5B-5477CB8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6BB-B650-4F83-83ED-250B4F3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7FD-49E0-43A5-B8D9-D84AE61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211-67B9-4B8E-A887-761EC2E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2F7-BC0F-45C8-8B6A-5834AB0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6F9-1333-4696-ABD2-1C39870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D21-02DB-42EF-B859-A801188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508-83E7-4386-B3A2-83EBDA8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FFB-951B-40C8-A262-EC877EB7725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91B-EE8D-480A-83D2-96BDB4568D9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. TO ANATOMY &amp; PHYSIOLOG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rous membra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embranes that line trunk cavities and cover the organs in those ca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ay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VISCERAL: Inner layer in contact with or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ARIETAL: OUTER PART OF WA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pace in between usually filled with flui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alloon mod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Homeostasis &amp; System Integ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Homeostasis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: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Systems maintain stable internal envm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A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Negative Feedback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(temperature, insulin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Oppose altered condition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Autoregulation</a:t>
            </a:r>
            <a:r>
              <a:rPr b="0" i="1" lang="en-US" sz="30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automatic change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Extrinsic regulation-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nervous or endocrine response when autoreg. fail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B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Positive Feedback 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(clotting, labor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Reinforces stimulus/ condition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C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Disea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Homeostasis regulation breaks dow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egative &amp; Positive Feedbac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5530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867280" y="1944720"/>
            <a:ext cx="3276720" cy="49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2560" y="1832760"/>
            <a:ext cx="333828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Negative Feed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90160" y="1223280"/>
            <a:ext cx="3143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ositive Feed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990720" y="647712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5562720" y="659304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 Black"/>
              </a:rPr>
              <a:t>Clinical 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X-R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High energy rad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CT (Computerized Tomography) Sc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D image by rotating x-ray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MRI (Magnetic Resonance Imagi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agnetic field &amp; radio wa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4. Ultrasound (AKA Sonogr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High freq. sound wa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520" y="4562640"/>
            <a:ext cx="3581280" cy="2295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257800" y="4408560"/>
            <a:ext cx="355428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unctions of all Living Thin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etabol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Absorb materia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Diges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Respi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Circ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Excre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sponsive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Grow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68760" y="1674720"/>
            <a:ext cx="1836720" cy="1473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40160" y="3922560"/>
            <a:ext cx="1828800" cy="191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934320" y="13716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400800" y="3809880"/>
            <a:ext cx="23623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96440" y="3960"/>
            <a:ext cx="39283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atomy &amp; 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200" y="3960"/>
            <a:ext cx="114228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4320" y="4195080"/>
            <a:ext cx="271368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velopme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5840" y="4195080"/>
            <a:ext cx="216180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roscop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640" y="3960"/>
            <a:ext cx="197892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240" y="689760"/>
            <a:ext cx="14335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480" y="2823480"/>
            <a:ext cx="1656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al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0280" y="2061360"/>
            <a:ext cx="16498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7800" y="1375560"/>
            <a:ext cx="16362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g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82080" y="5033160"/>
            <a:ext cx="21772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mbry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1120" y="5871240"/>
            <a:ext cx="33292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nital Def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31840" y="659520"/>
            <a:ext cx="78732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72120" y="2823480"/>
            <a:ext cx="285084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360" y="1375560"/>
            <a:ext cx="1387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5800" y="2061360"/>
            <a:ext cx="223524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olog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9840" y="4880880"/>
            <a:ext cx="163476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yt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52520" y="5642640"/>
            <a:ext cx="17550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87480" y="2289960"/>
            <a:ext cx="147312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d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51920" y="2899440"/>
            <a:ext cx="238896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diograph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07280" y="3509280"/>
            <a:ext cx="151272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rg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294920" y="3049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3049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209320" y="533520"/>
            <a:ext cx="22860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33520"/>
            <a:ext cx="15228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81080" y="2590920"/>
            <a:ext cx="6858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3048120"/>
            <a:ext cx="685800" cy="75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3200400"/>
            <a:ext cx="68580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 Black"/>
              </a:rPr>
              <a:t>Levels of Organiz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137880" y="5534640"/>
            <a:ext cx="2736360" cy="13388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hemical/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ole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55600" y="4938480"/>
            <a:ext cx="2041560" cy="7358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ell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7640" y="4328640"/>
            <a:ext cx="1740600" cy="73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Tiss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90600" y="3338280"/>
            <a:ext cx="1755360" cy="735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640" y="2272320"/>
            <a:ext cx="1962360" cy="1338840"/>
          </a:xfrm>
          <a:prstGeom prst="ellips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3720" y="1280880"/>
            <a:ext cx="2595960" cy="735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04760" y="1981080"/>
            <a:ext cx="9903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3048120"/>
            <a:ext cx="106668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52480" y="3962520"/>
            <a:ext cx="152424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876920"/>
            <a:ext cx="83808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209680" y="5486400"/>
            <a:ext cx="106704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81480" y="892080"/>
            <a:ext cx="3729240" cy="59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11 Major Organ Syste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2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Integument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kele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us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Lymph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spir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Diges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Nerv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Endocr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ardiovas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Urin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produ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37000" y="900000"/>
            <a:ext cx="470700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rame of Reference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Superficial Anat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2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Land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natomical Pos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Supine-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 face 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Prone-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 face d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Reg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 quadrants (R/L-U&amp;LQ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 regions (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724280" cy="5715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45080" y="1598760"/>
            <a:ext cx="403704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rames of Reference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Superficial Anat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571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Dir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ront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ventral, ant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Back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dorsal, post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Head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ranial, cephalic, sup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Tai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audal, inf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Medi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lose to long ax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Later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away from long ax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Proxim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toward attached 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Dist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away from attached 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312408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Sectional Anatomy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Human Planes &amp; Se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Transverse/ Cross sx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Inf &amp; s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rontal/ Cor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nt/ ventral from post/ dorsal (animal: Ven/ D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Sagit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ight from le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Mid Sagitt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276720" cy="563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 Black"/>
              </a:rPr>
              <a:t>Body Cavit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6553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Cavity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organ cham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unctions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rotects &amp; cush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 size/ shape chan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Dorsal Body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ran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pi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Ventral Body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Thoracic- diaphrag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leu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ericard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ediastin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/ Peritone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elv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28195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6:48:53Z</dcterms:created>
  <dc:creator>Melissa Hecht</dc:creator>
  <dc:description/>
  <dc:language>en-US</dc:language>
  <cp:lastModifiedBy>Ignacio/Jayo</cp:lastModifiedBy>
  <dcterms:modified xsi:type="dcterms:W3CDTF">2007-09-11T02:17:01Z</dcterms:modified>
  <cp:revision>29</cp:revision>
  <dc:subject/>
  <dc:title>INTRO. TO ANATOMY &amp; PHYSIOLOGY</dc:title>
</cp:coreProperties>
</file>